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A1C6D-676F-4135-81BC-29F25C282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A03C0-C025-4828-AD76-DB6FAE7E5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294EC-B18C-4DB6-9F70-21E9C7ACB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B2AB8-8616-492D-ABAC-7B5D9F02C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71FC9-AF2E-41BF-9E8A-59DB5F411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48553-93F6-417C-80D8-8A5F79EB4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FA515-39A7-444B-B119-4C6487BD0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764280" y="1484280"/>
            <a:ext cx="73069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ТЕЛЬСКОЙ ГРАМОТ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ОДГОТОВКЕ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087920" y="214200"/>
            <a:ext cx="6980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вандыкского городского округа Оренбург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390200" y="3857760"/>
            <a:ext cx="4245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Нестерова И.В., 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Описание исторического события — 1_page-0001.jpg"/>
          <p:cNvPicPr/>
          <p:nvPr/>
        </p:nvPicPr>
        <p:blipFill>
          <a:blip r:embed="rId1"/>
          <a:stretch/>
        </p:blipFill>
        <p:spPr>
          <a:xfrm>
            <a:off x="3708360" y="189000"/>
            <a:ext cx="48452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Биография личности_page-0001.jpg"/>
          <p:cNvPicPr/>
          <p:nvPr/>
        </p:nvPicPr>
        <p:blipFill>
          <a:blip r:embed="rId1"/>
          <a:stretch/>
        </p:blipFill>
        <p:spPr>
          <a:xfrm>
            <a:off x="3419640" y="333360"/>
            <a:ext cx="54212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Запомни эти факты_page-0001.jpg"/>
          <p:cNvPicPr/>
          <p:nvPr/>
        </p:nvPicPr>
        <p:blipFill>
          <a:blip r:embed="rId1"/>
          <a:stretch/>
        </p:blipFill>
        <p:spPr>
          <a:xfrm>
            <a:off x="3564000" y="0"/>
            <a:ext cx="5086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Мое мнение_page-0001.jpg"/>
          <p:cNvPicPr/>
          <p:nvPr/>
        </p:nvPicPr>
        <p:blipFill>
          <a:blip r:embed="rId1"/>
          <a:stretch/>
        </p:blipFill>
        <p:spPr>
          <a:xfrm>
            <a:off x="3276720" y="333360"/>
            <a:ext cx="52052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Решение проблемы_page-0001.jpg"/>
          <p:cNvPicPr/>
          <p:nvPr/>
        </p:nvPicPr>
        <p:blipFill>
          <a:blip r:embed="rId1"/>
          <a:stretch/>
        </p:blipFill>
        <p:spPr>
          <a:xfrm>
            <a:off x="2987640" y="0"/>
            <a:ext cx="551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Найти доказательства_page-0001.jpg"/>
          <p:cNvPicPr/>
          <p:nvPr/>
        </p:nvPicPr>
        <p:blipFill>
          <a:blip r:embed="rId1"/>
          <a:stretch/>
        </p:blipFill>
        <p:spPr>
          <a:xfrm>
            <a:off x="179280" y="198360"/>
            <a:ext cx="878544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Причина и следствие_page-0001.jpg"/>
          <p:cNvPicPr/>
          <p:nvPr/>
        </p:nvPicPr>
        <p:blipFill>
          <a:blip r:embed="rId1"/>
          <a:stretch/>
        </p:blipFill>
        <p:spPr>
          <a:xfrm>
            <a:off x="250920" y="198360"/>
            <a:ext cx="84978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описание персонажа_page-0001.jpg"/>
          <p:cNvPicPr/>
          <p:nvPr/>
        </p:nvPicPr>
        <p:blipFill>
          <a:blip r:embed="rId1"/>
          <a:stretch/>
        </p:blipFill>
        <p:spPr>
          <a:xfrm>
            <a:off x="250920" y="198360"/>
            <a:ext cx="864216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2920" y="184464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250920" y="357120"/>
            <a:ext cx="8893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Читательская грамотность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ь человека понимать и использовать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189000"/>
            <a:ext cx="9144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ttps://www.i-igrushki.ru/upload/iblock/850/850e67c9931b702d32a96bc8bb1fad68.jpg"/>
          <p:cNvPicPr/>
          <p:nvPr/>
        </p:nvPicPr>
        <p:blipFill>
          <a:blip r:embed="rId1"/>
          <a:stretch/>
        </p:blipFill>
        <p:spPr>
          <a:xfrm>
            <a:off x="1206360" y="3492360"/>
            <a:ext cx="6797880" cy="27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826920" y="512640"/>
            <a:ext cx="792036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11280" y="100080"/>
            <a:ext cx="813744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ельская грамотность включает в себя следующ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читательские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Поиск и извлечение информации и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Понимание информации, сообщенной в тексте, ее интерпре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мышление о содержании текстового сообщения и его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мышление о форме текстового сообщения и ее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Осмысление и оценка информации (критически оценить качество и достоверность информации, обнаружение противоречий), применение полученной информации при решении широкого круга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Ориентация во множественных текстах ( интерпретация и обобщение информации из нескольких отличающихся источн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Умение ориентироваться в современном мире и справляться с новыми появившимися требованиями. Многие тексты связаны с оценкой использования информации в Интернете, в частности, как распознать достоверные сайты и онлайн документы; умение читать текст с гиперссыл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934920" y="1593720"/>
            <a:ext cx="7920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rcRect l="0" t="0" r="3982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84360" y="1186920"/>
            <a:ext cx="7632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екстная 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 это задача мотивационного характера, в условии которой описана конкретная жизненная ситуация, коррелирующая с имеющимся социокультурным опытом учащихся (известное, данное); требованием (неизвестным) задачи является анализ, осмысление и объяснение этой ситуации или выбор способа действия в ней, а результатом решения задачи является встреча с проблемой и осознание её личностной значимости.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11280" y="121320"/>
            <a:ext cx="79214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Опис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информация которого относится к объектам и их пространственным свой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Повествов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информация которого относится к объектам и их временным свой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олков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который дает законченную характеристику понятия в сложном взаимодействии его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уждение –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ип текста, который описывает отношения между утверждениями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нструкция (иногда называемая предписанием, приказом) –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ип текста, который содержит указания к действию и отвечает на вопрос «что делать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говорный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екст направлен на организацию взаимодействия для достижения обще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826920" y="404640"/>
            <a:ext cx="763272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Формат текста может быть определен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плош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Несплош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Множественные 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мешан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остав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971640" y="2302920"/>
            <a:ext cx="745164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84360" y="503640"/>
            <a:ext cx="806436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остное восприятие и понимание текста, умение анализировать и интерпретировать текст возможно при опоре на следующие виды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знанное, творческое, выразительное чтение художественных произведений разных жан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 (подробный, краткий, с элементами комментария, с творческим задание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ы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и интерпретация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ение пла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 геро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ние отзы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ние сочинен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vkkuv avkkuv</cp:lastModifiedBy>
  <dcterms:modified xsi:type="dcterms:W3CDTF">2022-02-27T18:58:02Z</dcterms:modified>
  <cp:revision>116</cp:revision>
  <dc:subject/>
  <dc:title>Слайд 1</dc:title>
</cp:coreProperties>
</file>